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AVE%20MARIA_SARA%20BRIGHTMAN.wav" ContentType="audio/x-wav"/>
  <Override PartName="/ppt/media/image8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76E-8643-40F9-A60C-C8C4696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667-345E-43DE-B956-0B03F642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947-7E9B-44EA-B437-BAC3030B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AF3-9AE9-4695-9568-138C5EE0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06D9D-9D2E-4120-AADF-48B2E31D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2EB0-9009-4052-84F9-5AA6AA43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8EBD6-4372-4CA6-B99A-77A0E83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3EB3-D58B-4480-AA6A-C307AF9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3E9C-CB86-41D0-8657-5BABC49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80F00-164B-4B8C-B0D6-8414798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A414-5AC5-4499-99A3-EB45E6E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710-0902-42DC-80F7-DDCEE239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D8C06-38E5-4777-96D0-79C7C90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DA99-A5D4-4EF5-BC7B-5E75D96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1CE4-697D-4A30-95EE-7C4EC0F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644C-4D6E-4187-95A8-08DCC4A0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74C7-9283-4A91-9FFE-C65E1658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57C-92C0-4F79-AC27-16508DC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708-141B-4815-AF40-B8D6AD2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FFB-5035-4D6C-9449-76649C8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D51-BD1C-4653-9362-FF7FAF8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C94-BE6D-4AF0-A379-B9A891E1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823-7878-4140-9676-A5BED57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EC6-7220-4EB9-B7CC-53564B3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4E9-E627-4C29-A7E2-D30AB27336B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60C1-BA6C-438B-A552-E4D7BD45078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VE%20MARIA_SARA%20BRIGHTMA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_SARA%20BRIGHTMA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_SARA%20BRIGHTMA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_SARA%20BRIGHTMA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_SARA%20BRIGHTMA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_SARA%20BRIGHTMA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4572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99"/>
                </a:solidFill>
                <a:latin typeface="Script MT Bold"/>
              </a:rPr>
              <a:t>10 cose che Dio ti chieder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AVE%20MARIA_SARA%20BRIGHTMA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6000" y="54936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Tua mamma ti chiede di aiutarla...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256536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66"/>
                </a:solidFill>
                <a:latin typeface="Script MT Bold"/>
              </a:rPr>
              <a:t>...ma tu vorresti finire di giocare la partita alla PlayStati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5493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Devi studia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56536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66"/>
                </a:solidFill>
                <a:latin typeface="Script MT Bold"/>
              </a:rPr>
              <a:t>...ma un tuo amico\a ti aspetta per usci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549360"/>
            <a:ext cx="842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Al mattino della domenica dovresti andare a Mess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256536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66"/>
                </a:solidFill>
                <a:latin typeface="Script MT Bold"/>
              </a:rPr>
              <a:t>...ma sei stanchissimo ed è l’unica occasione per riposart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32000" y="11592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Hai litigato con un tuo compagno\a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91628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La tua coscienza ti dice di provare a fare pa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86064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66"/>
                </a:solidFill>
                <a:latin typeface="Script MT Bold"/>
              </a:rPr>
              <a:t>..ma è stato lui/lei ad iniziare....è colpa su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3049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che modello di auto usavi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4647960" cy="348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819520"/>
            <a:ext cx="344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a quanta gente hai dato un passaggio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975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4572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i metri quadrati della tua cas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572000" cy="314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410080" y="3200400"/>
            <a:ext cx="343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quanta gente hai ospita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4572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la marca dei vestiti nel tuo armadi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74652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5680" y="2895480"/>
            <a:ext cx="375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quanta gente hai aiutato a vestirs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75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5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qual era il tuo titolo di studi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209760" cy="487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2860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se hai fatto il tuo lavoro al meglio delle tue capacità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25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533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quanti amici avevi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0481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quanta gente ti considerava suo ami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952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9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ti chiederà il colore della tua pell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791320" cy="3710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120" y="5562720"/>
            <a:ext cx="86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ti chiederà la purezza della tua anim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75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6520" y="380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Script MT Bold"/>
                <a:ea typeface="Tahoma"/>
              </a:rPr>
              <a:t>Dio non accusa: ti chiede solo di predicare con l’esempi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13859" t="0" r="0" b="0"/>
          <a:stretch/>
        </p:blipFill>
        <p:spPr>
          <a:xfrm>
            <a:off x="1600200" y="1754280"/>
            <a:ext cx="6095880" cy="382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18040" y="658332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radotto da IMMA*RELI*WEB http://immareli.altervista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457200"/>
            <a:ext cx="716292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Fare la volontà di Di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Opp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cript MT Bold"/>
              </a:rPr>
              <a:t>Le mie comodità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4:23:37Z</dcterms:created>
  <dc:creator>AFR</dc:creator>
  <dc:description/>
  <dc:language>en-US</dc:language>
  <cp:lastModifiedBy>PriorSte</cp:lastModifiedBy>
  <dcterms:modified xsi:type="dcterms:W3CDTF">2008-12-12T12:30:13Z</dcterms:modified>
  <cp:revision>20</cp:revision>
  <dc:subject/>
  <dc:title>Presentación de PowerPoint</dc:title>
</cp:coreProperties>
</file>